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66C-B5D4-4ED9-AA23-DB5B0B7B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D91-9583-48E5-9FC4-E078F47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7F4-9E58-4F55-A32D-37FA718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094-0355-457A-8DF0-61E55E4C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8A2-9500-4DED-889B-5C0B294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A79-49B1-4C81-82C6-C74F17F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02D-1903-4448-814F-92287190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C1B-51D5-458B-9ED4-743C7111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A78-CD65-4690-915B-4C9732E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907-FA47-4EE5-ACCE-8E1696F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640-D61B-45C0-A9A4-56D01AB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B70-C6D7-4E2A-BAC4-CA0DEB8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8CD2-6AE0-4355-B0BE-0488E7FD8C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Book Antiqua"/>
              </a:rPr>
              <a:t>SELECCIÓN DE MEDI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642960" y="8334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f)Acciones que requieren alta discriminación por terr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Radio, exteriores y periódicos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evistas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, si sólo cubre el ámbit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500040" y="83340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g)Acciones que necesitan alta discriminación por segmento de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Publicidad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adio y revistas especi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, exteriores, radio en programación general y revistas de interé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500040" y="103968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h)Acciones que requieren periodos muy largos de exposición con presupuestos limi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periódicos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428760" y="104760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i)Acciones que exigen un mensaje con argumento necesariamente largo y relativamente compl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periódicos y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directa, si se puede segmentar 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televisión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428760" y="1071720"/>
            <a:ext cx="82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j)Acciones que requieren una alta frecuencia con un bajo costo-efi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 Televisión, radio,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Perió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do: revistas y publicidad directa</a:t>
            </a: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57120" y="52380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PARA SELECCIONAR MEDIOS SE DEBE TOMAR EN CUE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El público objetivo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. A quienes dirigimos nuestros mensajes. Se trata de seleccionar el periódico, el programa de radio, la revista o el programa de televisión que ve el público al que nos dirigimos. Si queremos que nuestro mensaje sea recibido por jóvenes, urbanos, modernos, tenemos que colocar el anuncio en la radio, o el programa de televisión que ve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imagen que cada tipo de soporte transmite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l prestigio que los consumidores asignan a cada revista, periódico, o programa de televisió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357120" y="9637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credibilidad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 creíble que  los consumidores consideran cada soporte. La credibilidad del periódico se transmite en parte a la publicidad que inserta. Un anuncio insertado en un periódico serio no es percibido igual que el mismo anuncio dentro de un periódico sensacion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s posibilidades técnicas de los diversos soportes.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 Algunos medios permiten imágenes y sonidos como la televisión pero requieren un mensaje muy corto. Por otro lado los periódicos permiten facilitar una gran cantidad de información a los consumidores. Las revistas permiten utilizar el color y distintos tipos de enc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71680" y="104760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La disponibilidad de espacio publicitario.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En ocasiones los mejores espacios están reservado con tiempo por grandes anunciantes, agencias o revendedores de 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-El coste.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Un aspecto esencial; Para realizar una primera aproximación analizamos el número de personas que ven un anuncio. Para saber el número de personas que ven un determinado anuncio normalmente tenemos que acudir a la información proporcionada por una empresa especi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785880" y="1111320"/>
            <a:ext cx="757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a) Acciones que requiere un rápido y fuerte impacto en los merc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Radios y medios impresos, como apoyo a l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Medios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785880" y="111132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b) Acciones que requieren una fuerte demostración del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Medios imp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dos: Radio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500040" y="96840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c)Acciones que exigen una profunda y rápida identificación del aspecto exterior del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Medios impresos y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571680" y="1325520"/>
            <a:ext cx="8072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)Acciones que precisan una reacción a muy corto plaz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; Radio y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No recomendable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14240" y="1246320"/>
            <a:ext cx="7929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)Acciones de penetración o ampliación de merc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Prioridad: Televisión, radio y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Secundarios: Ex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 Antiqua"/>
              </a:rPr>
              <a:t>Terciarios: 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6:31:49Z</dcterms:created>
  <dc:creator>Manuel Marquez</dc:creator>
  <dc:description/>
  <dc:language>en-US</dc:language>
  <cp:lastModifiedBy>Manuel Marquez</cp:lastModifiedBy>
  <dcterms:modified xsi:type="dcterms:W3CDTF">2003-01-25T08:11:41Z</dcterms:modified>
  <cp:revision>3</cp:revision>
  <dc:subject/>
  <dc:title>SELECCIÓN DE MEDIOS</dc:title>
</cp:coreProperties>
</file>